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26.jpeg" ContentType="image/jpeg"/>
  <Override PartName="/ppt/media/image25.png" ContentType="image/png"/>
  <Override PartName="/ppt/media/image21.png" ContentType="image/png"/>
  <Override PartName="/ppt/media/image19.jpeg" ContentType="image/jpeg"/>
  <Override PartName="/ppt/media/image3.jpeg" ContentType="image/jpeg"/>
  <Override PartName="/ppt/media/image24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85D-FD5C-427E-906A-328EAE7E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6CF0-213D-479A-ADC3-61F133AF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38CF-9051-4DC0-8A12-1477A6A9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48D9-E838-4B8C-B9D0-5ED3DF45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E1E-D753-4467-8294-24167349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BD7-386D-476F-A792-9A9038F7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3D8E-1C55-4CDB-99EA-BF35EFC30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5AD-25D5-42EF-99DE-0F511C2C3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D9AD-430B-497F-979A-A2FD66E9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2A7F-A161-4235-AD66-EEAB1267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88F-17FA-43FE-A403-13BFC7D7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0F9-F2D6-445E-8844-EB7044F8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9D8E-5295-4AC1-9142-9ADA0203A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7056360" cy="1109880"/>
          </a:xfrm>
          <a:prstGeom prst="rect">
            <a:avLst/>
          </a:prstGeom>
          <a:solidFill>
            <a:srgbClr val="bbe0e3"/>
          </a:solidFill>
          <a:ln w="381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ff"/>
                </a:solidFill>
                <a:latin typeface="Comic Sans MS"/>
              </a:rPr>
              <a:t>Польская музы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3125880"/>
            <a:ext cx="4968720" cy="3429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50920" y="1817640"/>
            <a:ext cx="7273800" cy="4842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4643280" y="115920"/>
            <a:ext cx="4104000" cy="136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ПОЛОНЕЗ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79280" y="1919160"/>
            <a:ext cx="7201080" cy="4805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4643280" y="189000"/>
            <a:ext cx="4104000" cy="136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ПОЛОНЕЗ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4920" y="5084280"/>
            <a:ext cx="5194440" cy="1143000"/>
          </a:xfrm>
          <a:prstGeom prst="rect">
            <a:avLst/>
          </a:prstGeom>
          <a:solidFill>
            <a:srgbClr val="bbe0e3"/>
          </a:solidFill>
          <a:ln w="381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Ритм  полон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7561440" cy="17571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11" name=""/>
          <p:cNvSpPr/>
          <p:nvPr/>
        </p:nvSpPr>
        <p:spPr>
          <a:xfrm>
            <a:off x="3708360" y="189000"/>
            <a:ext cx="5194440" cy="792000"/>
          </a:xfrm>
          <a:prstGeom prst="rect">
            <a:avLst/>
          </a:prstGeom>
          <a:solidFill>
            <a:srgbClr val="bbe0e3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Практическое задание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284360" y="333000"/>
            <a:ext cx="4537080" cy="280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ff"/>
                </a:solidFill>
                <a:uFillTx/>
                <a:latin typeface="Arial"/>
              </a:rPr>
              <a:t>Дата рождения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25 сентября 17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ff"/>
                </a:solidFill>
                <a:uFillTx/>
                <a:latin typeface="Arial"/>
              </a:rPr>
              <a:t>Место рождени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Гузув, Речь Посполит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ff"/>
                </a:solidFill>
                <a:uFillTx/>
                <a:latin typeface="Arial"/>
              </a:rPr>
              <a:t>Дата смерти: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15 октября 1833 (68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ff"/>
                </a:solidFill>
                <a:uFillTx/>
                <a:latin typeface="Arial"/>
              </a:rPr>
              <a:t>Професси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литический деятел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компози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3529080" cy="505764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356000" y="4508640"/>
            <a:ext cx="1890720" cy="19936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4737240" y="3860640"/>
            <a:ext cx="4039560" cy="459720"/>
          </a:xfrm>
          <a:prstGeom prst="rect">
            <a:avLst/>
          </a:prstGeom>
          <a:solidFill>
            <a:srgbClr val="bbe0e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Семейный герб Огин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5661000"/>
            <a:ext cx="3554280" cy="825480"/>
          </a:xfrm>
          <a:prstGeom prst="rect">
            <a:avLst/>
          </a:prstGeom>
          <a:solidFill>
            <a:srgbClr val="bbe0e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Михаил Клеоф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Ог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588000" y="5157720"/>
            <a:ext cx="2376720" cy="15112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59640" y="5229360"/>
            <a:ext cx="1871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луша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олонез «Прощание с Родин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845964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6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8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6" dur="17785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58920" y="18864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Arial"/>
              </a:rPr>
              <a:t>МАЗУР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47640" y="1267920"/>
            <a:ext cx="73454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ольский народный танец, появился во время правления короля Августа III (18 век), стал танцем городским и придворным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исполняется парам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59895" t="0" r="8471" b="0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268360" y="1758960"/>
            <a:ext cx="6654960" cy="48038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324000" y="189000"/>
            <a:ext cx="4330440" cy="1143000"/>
          </a:xfrm>
          <a:prstGeom prst="rect">
            <a:avLst/>
          </a:prstGeom>
          <a:solidFill>
            <a:srgbClr val="bbe0e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Arial"/>
              </a:rPr>
              <a:t>МАЗУР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050920" y="1736640"/>
            <a:ext cx="6913800" cy="48974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395280" y="189000"/>
            <a:ext cx="4330800" cy="1143000"/>
          </a:xfrm>
          <a:prstGeom prst="rect">
            <a:avLst/>
          </a:prstGeom>
          <a:solidFill>
            <a:srgbClr val="bbe0e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Arial"/>
              </a:rPr>
              <a:t>МАЗУР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908000" y="1963800"/>
            <a:ext cx="7031160" cy="4680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32" name=""/>
          <p:cNvSpPr/>
          <p:nvPr/>
        </p:nvSpPr>
        <p:spPr>
          <a:xfrm>
            <a:off x="250920" y="189000"/>
            <a:ext cx="4330440" cy="1143000"/>
          </a:xfrm>
          <a:prstGeom prst="rect">
            <a:avLst/>
          </a:prstGeom>
          <a:solidFill>
            <a:srgbClr val="bbe0e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Arial"/>
              </a:rPr>
              <a:t>МАЗУР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4920" y="5084280"/>
            <a:ext cx="5194440" cy="1143000"/>
          </a:xfrm>
          <a:prstGeom prst="rect">
            <a:avLst/>
          </a:prstGeom>
          <a:solidFill>
            <a:srgbClr val="bbe0e3"/>
          </a:solidFill>
          <a:ln w="381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Ритм  мазур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708360" y="189000"/>
            <a:ext cx="5194440" cy="792000"/>
          </a:xfrm>
          <a:prstGeom prst="rect">
            <a:avLst/>
          </a:prstGeom>
          <a:solidFill>
            <a:srgbClr val="bbe0e3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Практическое задание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5280" y="2997360"/>
            <a:ext cx="8064360" cy="15858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4751640" cy="6335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41" name=""/>
          <p:cNvSpPr/>
          <p:nvPr/>
        </p:nvSpPr>
        <p:spPr>
          <a:xfrm>
            <a:off x="5508720" y="1341360"/>
            <a:ext cx="3051000" cy="825480"/>
          </a:xfrm>
          <a:prstGeom prst="rect">
            <a:avLst/>
          </a:prstGeom>
          <a:solidFill>
            <a:srgbClr val="bbe0e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Фридери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Шоп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516720" y="5661000"/>
            <a:ext cx="2376360" cy="934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45964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659640" y="5661000"/>
            <a:ext cx="18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Слуша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«Мазур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" dur="150408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713800" cy="64245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916360" y="1989000"/>
            <a:ext cx="1131840" cy="7556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708360" y="189000"/>
            <a:ext cx="5194440" cy="792000"/>
          </a:xfrm>
          <a:prstGeom prst="rect">
            <a:avLst/>
          </a:prstGeom>
          <a:solidFill>
            <a:srgbClr val="bbe0e3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Практическое задание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125360"/>
            <a:ext cx="5194080" cy="1143000"/>
          </a:xfrm>
          <a:prstGeom prst="rect">
            <a:avLst/>
          </a:prstGeom>
          <a:solidFill>
            <a:srgbClr val="bbe0e3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1. Танцы какого народа сегодня звучали на</a:t>
            </a:r>
            <a:br>
              <a:rPr sz="1600"/>
            </a:b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урок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780000" y="4149720"/>
            <a:ext cx="5194080" cy="1143000"/>
          </a:xfrm>
          <a:prstGeom prst="rect">
            <a:avLst/>
          </a:prstGeom>
          <a:solidFill>
            <a:srgbClr val="bbe0e3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4. Музыка каких польских композиторов звучала сегодня на урок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5157720"/>
            <a:ext cx="5194440" cy="998640"/>
          </a:xfrm>
          <a:prstGeom prst="rect">
            <a:avLst/>
          </a:prstGeom>
          <a:solidFill>
            <a:srgbClr val="bbe0e3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5.</a:t>
            </a: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В какой стране закончился жизненный путь </a:t>
            </a:r>
            <a:br>
              <a:rPr sz="1600"/>
            </a:b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Ф.Шопена?</a:t>
            </a:r>
            <a:br>
              <a:rPr sz="1600"/>
            </a:br>
            <a:r>
              <a:rPr b="0" lang="en-US" sz="16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35280" y="1844640"/>
            <a:ext cx="5194440" cy="1143000"/>
          </a:xfrm>
          <a:prstGeom prst="rect">
            <a:avLst/>
          </a:prstGeom>
          <a:solidFill>
            <a:srgbClr val="bbe0e3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2. Как называют торжественный танец-шествие</a:t>
            </a:r>
            <a:br>
              <a:rPr sz="1600"/>
            </a:b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 в умеренном темпе, имеющий польское </a:t>
            </a:r>
            <a:br>
              <a:rPr sz="1600"/>
            </a:b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происхождение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2852640"/>
            <a:ext cx="6696000" cy="1143000"/>
          </a:xfrm>
          <a:prstGeom prst="rect">
            <a:avLst/>
          </a:prstGeom>
          <a:solidFill>
            <a:srgbClr val="bbe0e3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3. Какой танец польского народа, появившийся во</a:t>
            </a:r>
            <a:br>
              <a:rPr sz="1600"/>
            </a:b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время правления короля Августа III, стал не только</a:t>
            </a:r>
            <a:br>
              <a:rPr sz="1600"/>
            </a:br>
            <a:r>
              <a:rPr b="1" lang="en-US" sz="1600" spc="-1" strike="noStrike">
                <a:solidFill>
                  <a:srgbClr val="3333ff"/>
                </a:solidFill>
                <a:latin typeface="Arial"/>
              </a:rPr>
              <a:t>придворным, но и городским танцем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414440" y="1916280"/>
            <a:ext cx="1787040" cy="459720"/>
          </a:xfrm>
          <a:prstGeom prst="rect">
            <a:avLst/>
          </a:prstGeom>
          <a:solidFill>
            <a:srgbClr val="99cc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Поль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35880" y="2637000"/>
            <a:ext cx="1469880" cy="459720"/>
          </a:xfrm>
          <a:prstGeom prst="rect">
            <a:avLst/>
          </a:prstGeom>
          <a:solidFill>
            <a:srgbClr val="99cc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Полон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63160" y="3573360"/>
            <a:ext cx="1432080" cy="459720"/>
          </a:xfrm>
          <a:prstGeom prst="rect">
            <a:avLst/>
          </a:prstGeom>
          <a:solidFill>
            <a:srgbClr val="99cc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Мазу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98080" y="5013360"/>
            <a:ext cx="1953000" cy="8254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М.Ог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Ф.Шоп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37360" y="5950080"/>
            <a:ext cx="2001960" cy="459720"/>
          </a:xfrm>
          <a:prstGeom prst="rect">
            <a:avLst/>
          </a:prstGeom>
          <a:solidFill>
            <a:srgbClr val="99cc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во Фр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7056360" cy="1109880"/>
          </a:xfrm>
          <a:prstGeom prst="rect">
            <a:avLst/>
          </a:prstGeom>
          <a:solidFill>
            <a:srgbClr val="bbe0e3"/>
          </a:solidFill>
          <a:ln w="381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3333ff"/>
                </a:solidFill>
                <a:latin typeface="Comic Sans MS"/>
              </a:rPr>
              <a:t>Польская музы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50920" y="3125880"/>
            <a:ext cx="4968720" cy="34290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3645000"/>
            <a:ext cx="4200480" cy="29988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 rot="21043800">
            <a:off x="3924000" y="476280"/>
            <a:ext cx="2781360" cy="4059360"/>
          </a:xfrm>
          <a:prstGeom prst="rect">
            <a:avLst/>
          </a:prstGeom>
          <a:ln w="38160">
            <a:solidFill>
              <a:srgbClr val="808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 rot="475200">
            <a:off x="5724000" y="1773000"/>
            <a:ext cx="2982960" cy="462888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3672000" cy="1511280"/>
          </a:xfrm>
          <a:prstGeom prst="rect">
            <a:avLst/>
          </a:prstGeom>
          <a:solidFill>
            <a:srgbClr val="bbe0e3"/>
          </a:solidFill>
          <a:ln w="381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ff"/>
                </a:solidFill>
                <a:latin typeface="Comic Sans MS"/>
              </a:rPr>
              <a:t>Польская музы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07672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4438800" cy="5715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  <p:sp>
        <p:nvSpPr>
          <p:cNvPr id="55" name=""/>
          <p:cNvSpPr/>
          <p:nvPr/>
        </p:nvSpPr>
        <p:spPr>
          <a:xfrm>
            <a:off x="5076720" y="4292640"/>
            <a:ext cx="3888000" cy="1937880"/>
          </a:xfrm>
          <a:prstGeom prst="rect">
            <a:avLst/>
          </a:prstGeom>
          <a:solidFill>
            <a:srgbClr val="bbe0e3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«Богородица»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самая старая известная польская пес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XIII 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15640" y="115920"/>
            <a:ext cx="6985080" cy="720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Arial"/>
              </a:rPr>
              <a:t>Народные польские танц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79280" y="1052640"/>
            <a:ext cx="2384640" cy="694800"/>
            <a:chOff x="179280" y="1052640"/>
            <a:chExt cx="2384640" cy="694800"/>
          </a:xfrm>
        </p:grpSpPr>
        <p:sp>
          <p:nvSpPr>
            <p:cNvPr id="59" name=""/>
            <p:cNvSpPr/>
            <p:nvPr/>
          </p:nvSpPr>
          <p:spPr>
            <a:xfrm>
              <a:off x="179280" y="1052640"/>
              <a:ext cx="2384640" cy="69480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9520" y="1091520"/>
              <a:ext cx="2324160" cy="621000"/>
            </a:xfrm>
            <a:prstGeom prst="roundRect">
              <a:avLst>
                <a:gd name="adj" fmla="val 50000"/>
              </a:avLst>
            </a:prstGeom>
            <a:solidFill>
              <a:srgbClr val="bbe0e3">
                <a:alpha val="90000"/>
              </a:srgbClr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611280" y="1197000"/>
            <a:ext cx="1600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краковя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11280" y="1772640"/>
            <a:ext cx="1657080" cy="345960"/>
          </a:xfrm>
          <a:prstGeom prst="triangle">
            <a:avLst>
              <a:gd name="adj" fmla="val 50477"/>
            </a:avLst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8360" y="2205000"/>
            <a:ext cx="1938240" cy="12924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492360" y="2205000"/>
            <a:ext cx="1943280" cy="12970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1908000" y="5084640"/>
            <a:ext cx="1994040" cy="125280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4932360" y="5013360"/>
            <a:ext cx="1873080" cy="136692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6516720" y="2205000"/>
            <a:ext cx="1925640" cy="128448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  <p:grpSp>
        <p:nvGrpSpPr>
          <p:cNvPr id="68" name=""/>
          <p:cNvGrpSpPr/>
          <p:nvPr/>
        </p:nvGrpSpPr>
        <p:grpSpPr>
          <a:xfrm>
            <a:off x="3276720" y="1052640"/>
            <a:ext cx="2384280" cy="694800"/>
            <a:chOff x="3276720" y="1052640"/>
            <a:chExt cx="2384280" cy="694800"/>
          </a:xfrm>
        </p:grpSpPr>
        <p:sp>
          <p:nvSpPr>
            <p:cNvPr id="69" name=""/>
            <p:cNvSpPr/>
            <p:nvPr/>
          </p:nvSpPr>
          <p:spPr>
            <a:xfrm>
              <a:off x="3276720" y="1052640"/>
              <a:ext cx="2384280" cy="69480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306600" y="1091520"/>
              <a:ext cx="2323800" cy="621000"/>
            </a:xfrm>
            <a:prstGeom prst="roundRect">
              <a:avLst>
                <a:gd name="adj" fmla="val 50000"/>
              </a:avLst>
            </a:prstGeom>
            <a:solidFill>
              <a:srgbClr val="bbe0e3">
                <a:alpha val="90000"/>
              </a:srgbClr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1619280" y="3933720"/>
            <a:ext cx="2384280" cy="695160"/>
            <a:chOff x="1619280" y="3933720"/>
            <a:chExt cx="2384280" cy="695160"/>
          </a:xfrm>
        </p:grpSpPr>
        <p:sp>
          <p:nvSpPr>
            <p:cNvPr id="72" name=""/>
            <p:cNvSpPr/>
            <p:nvPr/>
          </p:nvSpPr>
          <p:spPr>
            <a:xfrm>
              <a:off x="1619280" y="3933720"/>
              <a:ext cx="2384280" cy="69516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49160" y="3972600"/>
              <a:ext cx="2323800" cy="621360"/>
            </a:xfrm>
            <a:prstGeom prst="roundRect">
              <a:avLst>
                <a:gd name="adj" fmla="val 50000"/>
              </a:avLst>
            </a:prstGeom>
            <a:solidFill>
              <a:srgbClr val="bbe0e3">
                <a:alpha val="90000"/>
              </a:srgbClr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300720" y="1052640"/>
            <a:ext cx="2384640" cy="694800"/>
            <a:chOff x="6300720" y="1052640"/>
            <a:chExt cx="2384640" cy="694800"/>
          </a:xfrm>
        </p:grpSpPr>
        <p:sp>
          <p:nvSpPr>
            <p:cNvPr id="75" name=""/>
            <p:cNvSpPr/>
            <p:nvPr/>
          </p:nvSpPr>
          <p:spPr>
            <a:xfrm>
              <a:off x="6300720" y="1052640"/>
              <a:ext cx="2384640" cy="69480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330960" y="1091520"/>
              <a:ext cx="2324160" cy="621000"/>
            </a:xfrm>
            <a:prstGeom prst="roundRect">
              <a:avLst>
                <a:gd name="adj" fmla="val 50000"/>
              </a:avLst>
            </a:prstGeom>
            <a:solidFill>
              <a:srgbClr val="bbe0e3">
                <a:alpha val="90000"/>
              </a:srgbClr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716360" y="3860640"/>
            <a:ext cx="2384640" cy="695160"/>
            <a:chOff x="4716360" y="3860640"/>
            <a:chExt cx="2384640" cy="695160"/>
          </a:xfrm>
        </p:grpSpPr>
        <p:sp>
          <p:nvSpPr>
            <p:cNvPr id="78" name=""/>
            <p:cNvSpPr/>
            <p:nvPr/>
          </p:nvSpPr>
          <p:spPr>
            <a:xfrm>
              <a:off x="4716360" y="3860640"/>
              <a:ext cx="2384640" cy="695160"/>
            </a:xfrm>
            <a:prstGeom prst="roundRect">
              <a:avLst>
                <a:gd name="adj" fmla="val 50000"/>
              </a:avLst>
            </a:prstGeom>
            <a:solidFill>
              <a:srgbClr val="bbe0e3"/>
            </a:soli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46600" y="3899520"/>
              <a:ext cx="2324160" cy="621360"/>
            </a:xfrm>
            <a:prstGeom prst="roundRect">
              <a:avLst>
                <a:gd name="adj" fmla="val 50000"/>
              </a:avLst>
            </a:prstGeom>
            <a:solidFill>
              <a:srgbClr val="bbe0e3">
                <a:alpha val="90000"/>
              </a:srgbClr>
            </a:solidFill>
            <a:ln w="1908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 flipV="1">
            <a:off x="5076720" y="4581360"/>
            <a:ext cx="1657440" cy="346320"/>
          </a:xfrm>
          <a:prstGeom prst="triangle">
            <a:avLst>
              <a:gd name="adj" fmla="val 50477"/>
            </a:avLst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588000" y="1772640"/>
            <a:ext cx="1657440" cy="345960"/>
          </a:xfrm>
          <a:prstGeom prst="triangle">
            <a:avLst>
              <a:gd name="adj" fmla="val 50477"/>
            </a:avLst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979640" y="4652280"/>
            <a:ext cx="1657440" cy="345960"/>
          </a:xfrm>
          <a:prstGeom prst="triangle">
            <a:avLst>
              <a:gd name="adj" fmla="val 50477"/>
            </a:avLst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635280" y="1772640"/>
            <a:ext cx="1657440" cy="345960"/>
          </a:xfrm>
          <a:prstGeom prst="triangle">
            <a:avLst>
              <a:gd name="adj" fmla="val 50477"/>
            </a:avLst>
          </a:prstGeom>
          <a:solidFill>
            <a:srgbClr val="bbe0e3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64000" y="112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полоне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516720" y="112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куявя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4005360"/>
            <a:ext cx="1871640" cy="43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Arial"/>
              </a:rPr>
              <a:t>мазур(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35280" y="4076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Arial"/>
              </a:rPr>
              <a:t>обере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5445000"/>
            <a:ext cx="3710160" cy="1092240"/>
          </a:xfrm>
          <a:prstGeom prst="rect">
            <a:avLst/>
          </a:prstGeom>
          <a:solidFill>
            <a:srgbClr val="bbe0e3"/>
          </a:solidFill>
          <a:ln w="381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МАЗУРКА</a:t>
            </a:r>
            <a:r>
              <a:rPr b="0" lang="en-US" sz="5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97960" y="1413000"/>
            <a:ext cx="3603600" cy="916920"/>
          </a:xfrm>
          <a:prstGeom prst="rect">
            <a:avLst/>
          </a:prstGeom>
          <a:solidFill>
            <a:srgbClr val="bbe0e3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ПОЛОНЕ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140360" y="2781360"/>
            <a:ext cx="4768560" cy="36846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3257280" cy="49053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59895" t="0" r="8471" b="0"/>
          <a:stretch/>
        </p:blipFill>
        <p:spPr>
          <a:xfrm>
            <a:off x="802800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460872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Arial"/>
              </a:rPr>
              <a:t>ПОЛОНЕЗ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1" lang="ru-RU" sz="4000" spc="-1" strike="noStrike" u="sng">
                <a:solidFill>
                  <a:srgbClr val="333399"/>
                </a:solidFill>
                <a:uFillTx/>
                <a:latin typeface="Arial"/>
              </a:rPr>
              <a:t>Торжественный танец-шествие в умеренном темпе, имеющий польское происхождение.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озник в Польше около XV века под именем «ходзоный»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43280" y="115560"/>
            <a:ext cx="4104000" cy="136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33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ПОЛОНЕЗ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4000" y="1658880"/>
            <a:ext cx="6408720" cy="495288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8424720" cy="37227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4643280" y="260280"/>
            <a:ext cx="4104000" cy="1368360"/>
          </a:xfrm>
          <a:prstGeom prst="rect">
            <a:avLst/>
          </a:prstGeom>
          <a:solidFill>
            <a:srgbClr val="bbe0e3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en-US" sz="5400" spc="-1" strike="noStrike">
                <a:solidFill>
                  <a:srgbClr val="3333ff"/>
                </a:solidFill>
                <a:latin typeface="Arial"/>
              </a:rPr>
              <a:t>ПОЛОНЕЗ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6:45:54Z</dcterms:created>
  <dc:creator>User</dc:creator>
  <dc:description/>
  <dc:language>en-US</dc:language>
  <cp:lastModifiedBy>Vlad</cp:lastModifiedBy>
  <dcterms:modified xsi:type="dcterms:W3CDTF">2012-05-27T01:42:50Z</dcterms:modified>
  <cp:revision>17</cp:revision>
  <dc:subject/>
  <dc:title>Польская музыка</dc:title>
</cp:coreProperties>
</file>